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6B44-C503-4E88-8817-AC6B20BB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6203-F869-44C8-93E3-45453B0E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C6A1-1894-432E-AB72-6455700AC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0D6-1014-4AE1-9F09-E6F7D7DF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161-4CE7-4872-A01E-D831B86B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6BC2-FE80-4BA9-BBAD-191CCFF0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F378-DF10-491F-BE58-DE6000E8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2460-55F2-4257-9441-0C71AFF1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CA9E-13AF-4C55-A083-9D00D4E8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EA9F-2168-4195-AF6E-89C54D3D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8DEE-AAA8-4DC9-A41E-B9CF5266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7A91-B9CA-4761-9D2A-81BDE3632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CB5-CCF7-4FFA-BAB2-336D6C77D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3137040" cy="446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34920" y="260280"/>
            <a:ext cx="52578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las ocho de la mañana, el primer valet, que ha dormido dentro de la habitación del rey, lo despierta. Al mismo tiempo entran el médico jefe, el cirujano jefe y la enfermera. Ella le da un beso de saludo y los otros le frotan el cuerpo y le cambian la camisa (…).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l barbero real lo afeita y le hace el peinado. Después el gran chambelán le entrega el traje real al jefe de los guardarropas y este, con varios nobles, que tienen dicho privilegio, ayudan al soberano a vestirse. Cuando ha terminado, reza a los pies de su cama; los cardenales y sacerdotes presentes se arrodillan; los laicos permanecen de pie.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 continuación, todos salen de la alcoba. Mientras tanto, la corte aguarda en la galería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27640" y="6237360"/>
            <a:ext cx="43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uque de Saint-Simon,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morias, 1675-17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GUNTAS DE COMPRENSIÓN DEL VID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58560" y="1053720"/>
            <a:ext cx="8605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¿Porqué se le llama Antiguo Régimen? y ¿A que siglo correspon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¿Cuál era el régimen político de gobierno existen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¿Cómo estaba formada la sociedad? Explica cada u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¿En que se basa la economí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¿Qué se les exigía o imponía al campesin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¿En que siglo se cambia la forma de pago del campesino y con qué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¿Qué dinamizó la economía atrazada de Europ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¿Qué eran los gremios y porque lo prohibían los monarc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6:29:55Z</dcterms:created>
  <dc:creator>PCLUMIR</dc:creator>
  <dc:description/>
  <dc:language>en-US</dc:language>
  <cp:lastModifiedBy>PCLUMIR</cp:lastModifiedBy>
  <dcterms:modified xsi:type="dcterms:W3CDTF">2010-05-27T02:38:30Z</dcterms:modified>
  <cp:revision>8</cp:revision>
  <dc:subject/>
  <dc:title>“A las ocho de la mañana, el primer valet, que ha dormido dentro de la habitación del rey, lo despierta. Al mismo tiempo entran el médico jefe, el cirujano jefe y la enfermera. Ella le da un beso de saludo y los otros le frotan el cuerpo y le cambian la camisa (…). El barbero real lo afeita y le hace el peinado. Después el gran chambelán le entrega el traje real al jefe de los guardarropas y este, con varios nobles, que tienen dicho privilegio, ayudan al soberano a vestirse. Cuando ha terminado, reza a los pies de su cama; los cardenales y sacerdotes presentes se arrodillan; los laicos permanecen de pie. A continuación, todos salen de la alcoba. Mientras tanto, la corte aguarda en la galería”.</dc:title>
</cp:coreProperties>
</file>